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69A5-2DF9-4A2E-A1D4-1F73BC97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600B-14B2-44CE-BD89-5C1586B8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CDD3-E395-4265-81AF-B6A74BFA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47A2-04C2-4DFA-9ABB-186B8AA4E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E901-6E6E-4465-B354-3391BA1F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2D44-8518-4BE1-B33C-B0BF2CE2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3908-2CEA-469D-BC1C-86DCEC81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9D6F-D12B-48D9-8A10-A73990BD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2807-67CE-4311-A397-8AA12EC0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7CF7-2F8A-40E3-ADD1-5296D81A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1405-4D7E-44B0-B9D6-1BEC3FCB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7D91-416B-490E-AD30-DDB8C868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D1C0-B74B-447D-AB8D-4078555A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5CF2-21F6-4242-8DF5-CA233843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9BC4-A222-4CB5-96F3-FAADDD14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6DEE-76B0-408D-B27C-A1FFA44E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B178-A29F-4122-90D7-EC6196D4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8BA1-2343-49AC-A67A-1BE41BA8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2FE3-B56A-4530-BF23-7B136C26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0C5F-86C1-4CBC-ACC2-1FBB7A87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B0C4-794F-490B-976C-DC1A4B63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2E95-D335-4F11-B6E5-02E00C81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DF0D-3F55-4457-AC66-B50DE652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7472-D183-4A26-BDEB-CC30FE0A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2CC7-EDA9-4671-8302-94C49C5D591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2F74-CB61-4F8D-B2E1-FF5F5EDA243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cade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7315200" y="52578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315200" y="53341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20444400">
            <a:off x="6751440" y="4622040"/>
            <a:ext cx="1900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-27-1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r:1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143000" y="838080"/>
            <a:ext cx="62485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atorade</a:t>
            </a:r>
            <a:endParaRPr b="1" lang="en-US" sz="4400" spc="1" strike="noStrike">
              <a:ln w="12600">
                <a:solidFill>
                  <a:srgbClr val="ff00ff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5638680"/>
            <a:ext cx="3962520" cy="19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Sound: Free Play Music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Comic Sans MS"/>
              </a:rPr>
              <a:t>music,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May 7,2010, 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99"/>
                </a:solidFill>
                <a:uFillTx/>
                <a:latin typeface="Comic Sans MS"/>
                <a:hlinkClick r:id="rId1"/>
              </a:rPr>
              <a:t>www.freeplaymusic.com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34340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Cade"/>
          <p:cNvPicPr/>
          <p:nvPr/>
        </p:nvPicPr>
        <p:blipFill>
          <a:blip r:embed="rId1"/>
          <a:srcRect l="0" t="0" r="57785" b="-49983"/>
          <a:stretch/>
        </p:blipFill>
        <p:spPr>
          <a:xfrm rot="20260800">
            <a:off x="2209320" y="1295280"/>
            <a:ext cx="2210040" cy="36734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762120" y="5715000"/>
            <a:ext cx="5790960" cy="12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Lemelsons MIT Program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Comic Sans MS"/>
              </a:rPr>
              <a:t>Robert Cade,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May 10,201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99"/>
                </a:solidFill>
                <a:uFillTx/>
                <a:latin typeface="Comic Sans MS"/>
                <a:hlinkClick r:id="rId2"/>
              </a:rPr>
              <a:t>http://web.mit.edu/invent/iow/cade.htm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133720" y="41148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This is a picture of the Banner they used because of what Robert made for the team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auhaus 93"/>
              </a:rPr>
              <a:t>Invention: Gatorade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Forte"/>
              </a:rPr>
              <a:t>A coach asked Robert to find a drink to keep the team focus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Forte"/>
              </a:rPr>
              <a:t>Named the drink Gatorade after The Gators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Forte"/>
              </a:rPr>
              <a:t>He made adjustments to it so it can not be turned down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Forte"/>
              </a:rPr>
              <a:t>Billions of dollars are made for selling this drink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Forte"/>
              </a:rPr>
              <a:t>There are more then 15 kinds of Gatorad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heel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Bauhaus 93"/>
              </a:rPr>
              <a:t>Inventor: Robert Cade</a:t>
            </a:r>
            <a:endParaRPr b="0" lang="en-US" sz="5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Forte"/>
              </a:rPr>
              <a:t>Robert was born on 1927 in Florid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Forte"/>
              </a:rPr>
              <a:t>He was trained in the University of Texas Medical Schoo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Forte"/>
              </a:rPr>
              <a:t>He was a internist and nephrologists in Texa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Forte"/>
              </a:rPr>
              <a:t>Robert was a medical researcher in The University of Florid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Forte"/>
              </a:rPr>
              <a:t>In 1973 he went back to Florida (University) and was a professor of medicin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heel spokes="8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3:22:21Z</dcterms:created>
  <dc:creator>install</dc:creator>
  <dc:description/>
  <dc:language>en-US</dc:language>
  <cp:lastModifiedBy>install</cp:lastModifiedBy>
  <dcterms:modified xsi:type="dcterms:W3CDTF">2010-05-12T13:15:10Z</dcterms:modified>
  <cp:revision>10</cp:revision>
  <dc:subject/>
  <dc:title>Slide 1</dc:title>
</cp:coreProperties>
</file>